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981-37B1-43ED-A302-ABA772AD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2DB-8CE0-40C0-BD3A-A0F23E75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EC017-FD11-4525-BBFC-FF42BE1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63D9-B691-423F-9CDF-6E119A68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1AA01-6E98-4D15-BADC-FC17B39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17329-6019-43D0-8809-50C4E87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D8A5-6EDF-4DF2-B40F-B4388E3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FE940-74F8-4248-B8D7-D65649D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86DF0-6AEA-4D12-A29B-32C8129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A7293-0A83-4A9A-AF28-C7BDEC8F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F03A-D523-48D6-BBA9-0E1C99F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31694-E1C1-4582-87FF-62758E24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479-0847-44E1-B86C-0462BB40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10307-5E7A-4776-BE43-7FF6BB0A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62F23-AF26-4C2F-9CBB-F46D4B1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B0AF7-6CA5-49BC-B14C-6F85529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CE52F-8E2E-402C-8468-335977EF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E707C-AAA7-4CA1-9E4B-86CD4B9F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B94C2-7E9E-4EE7-BCB1-F723C317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3DBDC-98E7-4518-87AD-DAE366F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C38EE-DFD6-445A-8BB4-5829A52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0F725-4AED-4567-AB76-1FE1AAD1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CA655-E119-4591-B983-10DFA89E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720-6A25-4A4C-AD78-A63B431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C784A-F2E9-4AA7-969D-A60C49FA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8404-E5C2-4CF0-9525-E3669675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615C-DDCD-435C-9003-BB4D962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EDC1-3E55-47D3-BBEE-6EC91E8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C28D9-80B8-4546-975C-5F3DBADB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22C1E-2583-4775-8CF3-613E3AFE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E5740-BAC9-43B5-9991-5FB0E8C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D3FFE-B0FB-4F08-9320-245EB4A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BBF97-6EDD-43DA-B40E-884F08D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41C2E-F235-477D-A08A-8DB664E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A675-47FE-4818-BD43-A65D72C8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7AC0E-4E49-4B45-B6F3-B0CF4ADD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933C2-A604-4A41-BDCB-6CBE18BC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348C5-7036-41FF-BE86-6DEE923A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A2D87-B421-47CC-8375-3B8AB9F9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DB13C-93BF-4004-B009-C0872BC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4EF05-3BB6-4DE7-AC87-411AE64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215EB-0A04-4615-9F7A-3263171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AC1C3-28A2-4C12-A8F2-473CB40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F5BEB-293A-40AD-B723-84F083F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B4CAB-EF23-4C98-AF55-8C68E0F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1DDD-617E-422A-97B9-70DFFB86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37397-1748-4E70-9D1F-B734497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EB6FF-A561-4914-956E-9D35400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DF747-FBC1-4427-AE2C-A34572B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8B96D-F44C-4731-8B36-81DDB1E0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3A13A-AD1F-4AA6-A0A6-3994FD27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03C01-5D97-4E40-A0A8-0FFBF30B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0D383-4321-4D14-A025-607A46C0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41B00-D35A-4BDA-B03D-FC94EDA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F6FBD-E573-48AF-89C1-675D3FDD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92937-8CFC-48DB-AA04-440F217C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1FB-2F40-4CCC-8002-6A55601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6CFA4-501F-4CC3-A64E-684330DD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B5988-B4E6-45C0-922B-7BC6D3D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8D75A-EB79-409A-A261-6B135EA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4597D-F155-4485-B7DB-D4A3CA25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D03C7-BFE5-4823-AB7E-8D01E16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D8816-DACD-4E86-996E-176B83F1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7DCEE-12EF-4022-BFED-4A4814F6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7F5DA-D0EE-48B2-B556-F70F82E9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E59AE-FD4F-40C5-94FA-6407A67B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EB1E4-9C05-4709-B3CE-522CDF2F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181-A029-4776-9573-C8C20946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E454B-C773-4D8D-A5C9-263F7A6D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B7E50-D72A-4D4F-85A0-A90ED534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8274F-72A0-4176-92D5-6DAB316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7511E-3695-4551-B9FF-57D2F67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5AD90-CE0E-4F43-A73D-895B0D8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0910D-2D52-420B-A8E9-43CCB75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9C60D-1A8C-447B-AC51-23B0F83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7FFAD-8035-4582-A7DE-811564C5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2FC56-4D71-4BBE-9991-E44930DF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2E514-0E58-475E-A983-BCF7A84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371-D50C-464A-898F-66EB834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45F3C-5494-4942-8B55-6964972D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552EB-2516-4DD7-BC39-296EDEE7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2060C-F6BC-469A-BF44-1D4E5C3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7B773-6427-457B-A9EB-2D1AB442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2E9CC-8E1B-48C7-A495-DB5808BD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AD8EF-F848-42A5-BEDC-48793D2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5E916-913E-4E34-9766-3977681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C5E4E-1058-4FDB-AEF5-12F4F736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25948-078D-4291-892A-226F7E4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934B3-79C6-4682-AEBE-3F254A8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0A9-A85B-4B15-AFE3-25D2E5F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C71C1-1EC8-4D08-A09B-337A0E2D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058BA-D18E-4446-A018-C696C8BD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54E1B-FFBD-48A8-87D0-D2477DC7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C6EE0-4D10-4E0B-A7D6-6C84309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B6977-968C-45E9-B199-ED1A2C1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A28BB-62C2-45CE-9A09-7910498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4A369-88F5-4534-8520-A3B4061B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96602-C3A7-4808-8460-E638CDE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1CC2D-C47A-4F7F-8944-5F52A9D9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89279-A021-4714-801C-CC559E2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5FE9-1814-4A27-B5AA-DA3D6D5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1F305-B7D1-48F2-97D5-EAE8A94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7DA94-A982-4969-895B-4081B06F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EC78B-E3E1-4DA4-B846-BA94FB7F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D7B0F-1638-4074-BC91-3F9AAA9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7436D-0BF1-4894-8C0B-608695C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C74A9-9A87-44A8-8727-17EAAF5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14C1B-0AF7-469C-A5DD-10D7DB27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03467-5423-4087-B695-C09F236D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6EE8A-A8B5-4A98-864F-E5B7EEAB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F333D-395D-4711-B9BC-A1CDC1B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8D0-B3F2-4EBA-93EE-65235024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A138-3953-40F5-9DAE-39A426D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43F25-C8CB-4983-BD5E-BE4C172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07476-29FA-4F5C-86B6-0D121CF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601F2-80C5-4952-9B97-21B3006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82B6D-0053-44B6-A826-339D706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4E583-C870-4A82-9210-970C411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B5E6E-DEF0-4504-A401-F2D85E92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F3B33-9162-4303-B8D9-5BD23AC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76978-F88B-48A6-89D7-5F0518F1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0AF45-F4D6-4F4D-88E2-8F36DF75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5FDB1-46A3-4737-8825-594F1A8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4AE-14A2-43A5-BB86-AEF3302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4F5BD-3FCC-4C0D-B8AC-82FFA04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01129-96DA-43D0-A922-563261AE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F51C2-3F8B-4CB5-983F-5941D01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33762-AF6B-4FD8-962F-A748A1C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9DD04-A897-4FA6-A45B-19575F2E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6FE6B-88D4-4613-BB27-5F3BC483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95B24-9E34-4F25-8B59-791A4F05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D9401-7215-4A54-8DED-76C199E7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04A1A-A8EF-4529-8AAB-90EB9D9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681D6-EE74-44E9-AFF9-F39DAE3A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41F4-090E-4A0B-8FEC-AFD3857A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EC32E7-03C4-4D32-9355-E98C4A48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68790-60A1-4F45-906E-B8EF9B98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43EEE-D34D-4D7C-A6A2-F7BE10BF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23ED9-0A70-4484-8366-44229C6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390E9-0A84-40A3-BD58-ECDE3BF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B2937-E96D-46BE-BBA0-FC0CD91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2E856-E382-4DA3-AF06-3B76DF9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C9361-54E7-4498-97D6-5A995FAB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E8D84-8EDD-424F-94B3-95C66A77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5F176-FD18-413F-B974-A5A1C81B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6A7-2A72-491A-B986-9E052A3C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FD14C-FF9C-449A-899D-0E797F9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8B072-7C9A-4CD1-AE81-96381E45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8A996-7819-493A-91D3-2090FC3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C5C82-352E-4F08-9B0E-FED6C7EE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CDC52-3A25-434F-93CD-16F58BC5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EEA80-F8EB-4278-8F40-9C80803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B4B8D-43E9-453C-B792-C0D3F94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77CC7-AB4F-458D-A55D-604BD308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D2B4E-D1EB-4655-B908-B01CEDB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BFAD9-F88B-4C51-88EC-F88091D2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227-2B25-4DE4-8A48-E5B239BB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9AF9B-A0A0-459D-A9F0-DCAE06D7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0F3F0-5673-40D9-B3DC-DE569BF9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CC6B3-E789-4A45-8F88-3B3ED576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659B5-F809-47A6-A0FE-3D1C9BC2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DBC3D-168C-44EF-B0E6-F459192C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25D72-F601-4041-9D07-A3C33D2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A8D22-45A8-4A9E-9AD9-CD9CE292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65514-B5CE-485D-808E-A17BBB8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25EFC-AAB5-4CE8-8B10-F6CD8BD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C5518-6134-49B9-8D20-6235FC7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A8D3-4246-49E0-9356-EAC525FF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ACF58-2535-4CC9-ADE0-3B13B51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FB7B5-BAB6-4A6F-B1E1-AC6AA001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51AB3-DC53-43C7-96BB-E46A3695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CAF0E-84D7-4699-855B-383382D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6DCE1A-4ECA-46B2-8A20-1AB3600E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AF01AA-C8F4-4920-9DD3-87CC12C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842CB-8348-4162-99DC-99832B3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7BA27-B26D-4804-940A-5EFF46F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E8558-CC40-4D7B-9064-900654A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8B1D1-F0A4-4FB4-AC14-765A76B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7A33-C2D6-44D8-9796-D18768CD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8CA3D-951D-4514-84C6-B7DB685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5DB170-7D62-4B96-B952-450E0288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B4238-8113-4014-84A2-AA8A73B8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8E098-7BB8-446F-9DF1-EF878031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B77CA-B8D8-4B8E-803A-1176221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55BA9-F637-4483-89DF-67773B57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F460C-98F3-4A48-BA88-42D4CCE2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5E353-CEB5-4982-A68B-8C20F5E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932CC-A404-4DF3-BFB3-B9523E4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ED393-987B-4BD6-8AC1-5D15D75A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85CE-B0E4-41ED-8608-9200671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1220F-812A-4A8F-817D-02FB5D7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86644B-5A52-404A-B4BB-527BE19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C4E2E-0A79-4651-A7FD-7A35A50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378CD-B414-4167-82EC-5F5B88F6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A6A34-4682-4DC0-B632-05B3AAB4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3EB65-7B03-4694-825B-BD0FC88F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BC8DF-FF44-442D-93D0-F6A919F7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012641-45E1-41E2-8333-C84AA15F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D2F484-EC84-4EC0-ACFE-FA6C337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91D8C3-A23A-41B3-91C3-4F5F2DFC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0130-6F3B-4E98-898E-77078DE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42C4EA-5283-42C2-AF50-6C85906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BA056-D219-40C5-A971-11F50E54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EFF8CF-FF55-4F22-BE61-EA42D26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6F08C3-2983-4C26-9579-5DE2834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9DDF2-B29D-4AB6-BE3F-5170E10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3963A7-B203-4DC1-A313-E5192FA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B3D06-B38F-4223-B4BA-BDEA1D82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E4BC73-0797-42F9-9305-7C0EBE43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5DEC7-C06D-49EB-B865-78970533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FB73FF-F37C-4433-89E8-3C3EFEED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A3CE-01D7-40E2-B184-5E49FD21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59BC3-AD77-4B23-87AB-E49FF7A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BB8D89-4934-4ED7-B0BB-91470FBE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62283-519B-4910-AEDC-3D8006FE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E3632-F05D-4B60-A4F2-57FB03A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241458-A76D-4849-98F1-508606B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241F0E-6C82-4D47-8002-0BE997B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89F3DC-730E-4A24-948F-545AE31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3D5508-3A6A-4195-9C1B-80EF569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6BED53-0B34-4927-979D-D4F067B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41497-F65F-4148-8AF7-03C1CD3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0D4-5068-4B19-AD76-9B651CE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EC45-7AC4-47F5-9B97-5EEBED66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CB49FD-B250-4061-8DF6-2D42668F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8B8FA1-687D-476A-965B-33808FEA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6E8213-17BA-4F26-BD90-3195AF7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48E02F-1379-4162-B58F-3FA55B88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02DE9C-AA26-41AC-AC57-10A150E5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AFFE54-72EF-47C6-A507-C7B1EC54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36D184-7B33-4B1E-899E-2C83EBD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5A9CA5-2C9D-4C87-8590-53E52AD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756069-94D2-4A3C-A2CB-D31F7C3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E1AC51-D761-4768-A8C5-7E98AD4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E142-21A7-4D01-992F-F976A5B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D75AB8-9981-4306-A96E-4E06060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9CADFA-8DE8-48B7-891D-95CF16F3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94338D-595C-4A53-9A1D-D024EA1D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02AD5A-29D1-45AE-821E-D5CB7B00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A6D0C7-50E2-4FC5-BEDC-AC2F1404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BC1EDA-A91E-4A87-A24D-6B5F7A48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8E7D80-5279-41A1-B02E-A71658B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552ED5-B7C0-429E-8D48-1AB70AB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1B0C19-6163-4F8A-8ADB-EF8EE85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219C5-2E5E-444F-8A1E-CD8D2C4C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EB56-C101-4AF7-A782-95ABBE3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2966BE-8E42-4600-89D8-C484C64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F28463-0DCF-45D8-A39C-AC2559CE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0B30A7-E5E3-4FDA-AD08-F0F6D9E1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5A225-DB29-4C52-A181-EC1D18B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AEEC61-69F5-47E2-842B-1F10DA07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48344-EAF4-43A8-B01F-27BE549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5BC481-E40E-4E70-8650-FD912D4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CC8B81-8E95-4871-8776-C9EDE74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EBF02F-9251-4A60-9C9F-BB24F724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15509A-23D4-41A9-A795-FC5A2368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EDD7-ADB5-401A-B513-CD8B663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DDF8A-062C-4794-91C7-1932968A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4E24EE-79CA-415B-8DDA-8F2FF11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237809-50BF-4173-9B0F-A7FBEDE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DDAE3B-C0EF-4EF9-81A0-79C243D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269F2B-D1A9-4536-A861-324B733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973BC2-CCEC-4084-B7B1-B8113EAD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E0D023-DA2A-430F-86A8-DA6F7031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8A526F-189F-4BAA-A3A1-3F2859E1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60360A-ACC1-411A-844F-8E23FB5D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FFC555-6992-4735-AAFA-A8421A8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77FD-521A-4359-8888-141810F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3AFD27-7D55-4D41-B494-9E7C5D6F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9CCBBC-D9D8-450A-A7F2-58BE8AD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558CC3-C29F-4E28-BAF8-D09BDAE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6A3165-0803-4EE7-BB69-4C05BB1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00BE1B-DA4F-4A2C-B7F0-A23919A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98A01D-5429-4180-B31E-30A5200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46CACA-EEC5-43BE-A315-31B8C6F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8ABD96-6E2A-41E7-B556-2A99BE6C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FE1BB2-C86C-4DD2-A958-E3878732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69F3EA-5E91-4295-BAFE-0DE4D39D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4A2F-07EE-42E4-BE29-79B24E82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793969-B6AF-4EB3-9324-81788020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B5F73B-16FB-4E1B-A40A-C332FE91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88C05A-7D17-493D-9B22-0F41385B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D2D56F-0BA6-4D86-9F48-E2C5D21E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B17EC5-62D6-490E-8EBA-AC882D9E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4620E2-A8A8-4DF4-87CE-138088F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B38C6-DA38-418B-9E29-62A8C06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19222F-C110-4EAD-8C19-C4BBE872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72D44B-E66D-42AF-AC8C-D8C63E3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DC3656-38D9-4140-9FE0-C807B38F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8315-B314-4E4D-8757-382444C5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088AB9-92BE-4FC8-A70F-0C5C982A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5A9079-B27D-4D5F-8655-9271BDF5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27FAB0-AF1B-46BE-B203-943FEAD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1118C5-8C42-4646-B657-58B8A6B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E82785-4EAD-4358-BBCB-94EE792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3776C9-7465-450B-B8CD-1A757A1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6666A8-2FBD-453D-80F6-0F3F28A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A85A87-F65E-435B-BF72-648610A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8CA8F2-9260-4A97-9940-946B37A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E73F4F-9779-4BD2-B903-616ED49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1C46-2ED9-41F8-8CE8-81090772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5E5299-3F77-4371-9A48-144288A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6FCDF2-F447-43F2-9E8A-DB546FE3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B66902-9090-464F-9C71-F69E7818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85CC-290C-46E3-9598-6E70A394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A089-E341-41D5-A852-F75417A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AF4-04AE-4C0C-9E12-0257CA1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2A54-375D-4C23-A05A-7D8EBD0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76A3C-976C-4DB7-B2A8-D299AE1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50AA-5A76-4B6B-9022-5E220579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8750-2030-4D81-A6B2-4EA2F44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87B0-F823-46BC-9DAE-D2D306E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282E-D62A-41B5-A81B-784AAF2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5DD7-D80B-495F-A464-77C5D32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5C8D-803A-444F-8174-363899D5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B955-EA45-46AB-8476-4B010F87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42D6-9702-4C22-8539-B1CE230B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4CD-943E-4BBC-9A26-CCD09DD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622A-0BDF-45A1-8BE6-FD1C8AC3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DDA8-07D4-4AC2-9F3C-37EE264F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B269E-4568-441E-BAD4-689F97D6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5F6B-CCBA-4F98-A121-E687076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DA258-C7FD-48C8-8AF4-B958B840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742A-58DA-484E-9809-DF930F0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9103-166F-4A29-9D37-BAF01E6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75E1-45CD-449B-8CD0-7C79842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7BF8-C9F4-4291-AAA8-6994B2E0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8050-E4C4-4BCC-B1B1-EE6B68C8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D1F-70AC-4447-A4D3-5C2B84C9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3258-D72F-4BB7-ABD5-DFDEB24C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16BF-FB24-4B64-B3D7-0B198CDB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782E4-9968-4E95-B596-57FDD6C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699D-CF5D-4214-80EF-40734AD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C0C9-E904-4D1D-90A4-D5C7D0F0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B39A-74A6-4355-A242-4721B3E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1C216-2D28-489C-9D57-F49A34A1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A3DC3-A672-4719-8934-7E885859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384D-516B-4241-8DB1-8A75E0B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180E-4048-445F-BCFD-AFDEC1B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E4B-8CF3-4C0B-A32C-C93F817F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E7FC-1FA6-45C6-8A89-37BD359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547B-F27E-4CAC-9E3E-2F11EB8F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DDDE-AAAD-46B0-B495-6725FE45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00A7-7E17-4243-B669-78D9B553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8C3D-EA37-4913-B79D-2EA3D4A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7340-8639-44B3-B30E-0DCE548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0B42-54A3-46AC-8055-DCA50FC3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989D-A583-4C47-9DFA-198DC66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A1C5-9CD4-4D08-B22F-AFD93AD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FA11-9F0C-451A-BEC4-2D832BC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033-3A14-4622-9A9E-9D6E97D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4DDB1-C931-4EBE-96EC-708496C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3A5D-140F-4477-9895-8073E0D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92FA-A5AA-4F5C-8CF4-BF0F479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4EEE-FBD6-4BED-944F-2FF1BF83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AF203-AB7D-4FDD-984A-7F7D41E6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9CB60-5B47-4CF1-94CE-7DFC38A2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2017-A249-4112-B195-1C2F324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1140-122C-4F77-8CD7-01B3F3F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6E35-F6B3-46E8-8775-3F043349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E238-FC29-4E9B-8BE2-6E6D1863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588-9D1D-46F9-978F-C1E169B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E8FAB-4284-44C7-B589-CE142A1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3C7EC-48E4-4857-AC38-F03FDC8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681D4-62FF-4071-902F-4225F0C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1158-5F86-4364-93E7-11F8988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DB15-BBD8-4C34-8B53-5298673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AF36-6B9F-4A3C-92C7-9E51F59A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46C1-942B-4CD6-B43C-957F5F85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8224-0ECD-42E0-AF1D-3230AFC8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A79F9-0CB9-42E1-9EAB-87570F2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9D440-9990-4932-9026-213A9555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88C9-7094-408E-876A-1F9049C80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109-53C9-4EC1-9B8E-8FB2A49EF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2F24-95E0-4172-AA5D-D3A9A8DF8B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FEAA-AD10-4D16-83FD-D98F5218BB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616-5C43-4E13-9563-55F93534C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198-7429-408E-A09C-24FD8CB73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D4EE-E80C-4418-B152-9E425CD03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EA11-9403-43B7-B902-38185504A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A8DE-0D95-4221-B20F-272870EA2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61B-1DFE-4670-9963-02D989801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98AA-8C4C-463B-8BDE-E569D0F13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394-A9E2-4C96-B0CA-D9B75066B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2AA-F153-4985-94FD-B4B0FCDC6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7DAC-320F-428D-91FC-244C4B3F9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400-FC74-4A4F-878D-04EFD680E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45A-F923-4BEE-A75A-905930AB8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0AE5-7228-4FBC-8F74-249567DA9E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0E2E-D9F3-4323-BCD6-5C76754D42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8E9-321E-45DB-B274-29AE34225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00B-C7F4-402C-8C22-5AE94DA6C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487F-BB1F-4931-84E7-66B56A891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D7E-A169-432A-9F17-5C82E2085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36F-55D1-4A8C-8FB9-9CA40540E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6A64-7EA0-46A4-B222-EAC2331DE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15F7-C707-4CBD-AD18-3E9F36483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2996-D790-47E9-AF98-A5D435973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894-615C-445F-BD9B-7C95F49659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6D78-3C76-47FA-9E51-CBCAE9B37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3782-164F-4F16-8856-9F3CA8CC0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77A4-96D8-441F-BE40-EC6C40768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1C4A-237A-4389-A2C1-335200254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7EE3-7F70-4175-AF08-24F8351CA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F3AB-496F-472B-B6FC-C338B5030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9284-3E3D-426F-AD15-531214354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25B-CB15-4941-8A68-2659AB606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4BA-D736-4AAC-A6FA-378562B8C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A253-6796-4637-86C1-D0FB81848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AE7-B909-4750-B632-91348E537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197-5FA9-48C3-AE79-D55D4FDBB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ACAF-8456-4BCA-99A5-ECD9F0183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2D1-42A3-4C34-A504-403C9AC790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FA7-6395-45BD-8710-6442FBAE8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A56-B5E6-4026-8431-97C2FCF07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3C35-5216-433D-9C84-9140CB2861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DC4-D51D-434C-BCF0-98E6E5C18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25D-9760-497A-98C6-CD55B029B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B990-E547-4E05-84D7-C9098A02A1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75AD-9845-4697-90DB-27040D4B7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C05-EFCD-410E-8E2E-D75A85C87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84C2-AB30-402F-AEFC-E9CA9F2BF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3816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79873" descr=""/>
          <p:cNvPicPr/>
          <p:nvPr/>
        </p:nvPicPr>
        <p:blipFill>
          <a:blip r:embed="rId1"/>
          <a:stretch/>
        </p:blipFill>
        <p:spPr>
          <a:xfrm>
            <a:off x="547560" y="1338120"/>
            <a:ext cx="8048880" cy="41817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79874"/>
          <p:cNvSpPr/>
          <p:nvPr/>
        </p:nvSpPr>
        <p:spPr>
          <a:xfrm>
            <a:off x="7800840" y="5027760"/>
            <a:ext cx="4921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78849" descr=""/>
          <p:cNvPicPr/>
          <p:nvPr/>
        </p:nvPicPr>
        <p:blipFill>
          <a:blip r:embed="rId1"/>
          <a:stretch/>
        </p:blipFill>
        <p:spPr>
          <a:xfrm>
            <a:off x="876240" y="2319480"/>
            <a:ext cx="73915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7825" descr=""/>
          <p:cNvPicPr/>
          <p:nvPr/>
        </p:nvPicPr>
        <p:blipFill>
          <a:blip r:embed="rId1"/>
          <a:stretch/>
        </p:blipFill>
        <p:spPr>
          <a:xfrm>
            <a:off x="557280" y="2133720"/>
            <a:ext cx="8029440" cy="25905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7826"/>
          <p:cNvSpPr/>
          <p:nvPr/>
        </p:nvSpPr>
        <p:spPr>
          <a:xfrm>
            <a:off x="7810560" y="210348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6801" descr=""/>
          <p:cNvPicPr/>
          <p:nvPr/>
        </p:nvPicPr>
        <p:blipFill>
          <a:blip r:embed="rId1"/>
          <a:stretch/>
        </p:blipFill>
        <p:spPr>
          <a:xfrm>
            <a:off x="523800" y="1109520"/>
            <a:ext cx="8096400" cy="463896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6802"/>
          <p:cNvSpPr/>
          <p:nvPr/>
        </p:nvSpPr>
        <p:spPr>
          <a:xfrm>
            <a:off x="7734240" y="219852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89089" descr=""/>
          <p:cNvPicPr/>
          <p:nvPr/>
        </p:nvPicPr>
        <p:blipFill>
          <a:blip r:embed="rId1"/>
          <a:stretch/>
        </p:blipFill>
        <p:spPr>
          <a:xfrm>
            <a:off x="676440" y="2347920"/>
            <a:ext cx="77911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90113" descr=""/>
          <p:cNvPicPr/>
          <p:nvPr/>
        </p:nvPicPr>
        <p:blipFill>
          <a:blip r:embed="rId1"/>
          <a:stretch/>
        </p:blipFill>
        <p:spPr>
          <a:xfrm>
            <a:off x="471600" y="928800"/>
            <a:ext cx="8200800" cy="50004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90114"/>
          <p:cNvSpPr/>
          <p:nvPr/>
        </p:nvSpPr>
        <p:spPr>
          <a:xfrm>
            <a:off x="4019400" y="2951280"/>
            <a:ext cx="114948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90115"/>
          <p:cNvSpPr/>
          <p:nvPr/>
        </p:nvSpPr>
        <p:spPr>
          <a:xfrm>
            <a:off x="1200240" y="343692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90116"/>
          <p:cNvSpPr/>
          <p:nvPr/>
        </p:nvSpPr>
        <p:spPr>
          <a:xfrm>
            <a:off x="8028000" y="393372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90117"/>
          <p:cNvSpPr/>
          <p:nvPr/>
        </p:nvSpPr>
        <p:spPr>
          <a:xfrm>
            <a:off x="1116000" y="443700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0118"/>
          <p:cNvSpPr/>
          <p:nvPr/>
        </p:nvSpPr>
        <p:spPr>
          <a:xfrm>
            <a:off x="5651640" y="4941720"/>
            <a:ext cx="1492200" cy="4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1137" descr=""/>
          <p:cNvPicPr/>
          <p:nvPr/>
        </p:nvPicPr>
        <p:blipFill>
          <a:blip r:embed="rId1"/>
          <a:stretch/>
        </p:blipFill>
        <p:spPr>
          <a:xfrm>
            <a:off x="490680" y="1238400"/>
            <a:ext cx="8162640" cy="43812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1138"/>
          <p:cNvSpPr/>
          <p:nvPr/>
        </p:nvSpPr>
        <p:spPr>
          <a:xfrm>
            <a:off x="3209760" y="2674800"/>
            <a:ext cx="13017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91139"/>
          <p:cNvSpPr/>
          <p:nvPr/>
        </p:nvSpPr>
        <p:spPr>
          <a:xfrm>
            <a:off x="5638680" y="4199040"/>
            <a:ext cx="6638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91140"/>
          <p:cNvSpPr/>
          <p:nvPr/>
        </p:nvSpPr>
        <p:spPr>
          <a:xfrm>
            <a:off x="5940360" y="4724280"/>
            <a:ext cx="8636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2161" descr=""/>
          <p:cNvPicPr/>
          <p:nvPr/>
        </p:nvPicPr>
        <p:blipFill>
          <a:blip r:embed="rId1"/>
          <a:stretch/>
        </p:blipFill>
        <p:spPr>
          <a:xfrm>
            <a:off x="490680" y="1171440"/>
            <a:ext cx="8162640" cy="45151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2162"/>
          <p:cNvSpPr/>
          <p:nvPr/>
        </p:nvSpPr>
        <p:spPr>
          <a:xfrm>
            <a:off x="3733920" y="1617840"/>
            <a:ext cx="796680" cy="44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2163"/>
          <p:cNvSpPr/>
          <p:nvPr/>
        </p:nvSpPr>
        <p:spPr>
          <a:xfrm>
            <a:off x="2700360" y="2637000"/>
            <a:ext cx="797040" cy="44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2164"/>
          <p:cNvSpPr/>
          <p:nvPr/>
        </p:nvSpPr>
        <p:spPr>
          <a:xfrm>
            <a:off x="2195640" y="4653000"/>
            <a:ext cx="260640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92165"/>
          <p:cNvSpPr/>
          <p:nvPr/>
        </p:nvSpPr>
        <p:spPr>
          <a:xfrm>
            <a:off x="6588000" y="5157720"/>
            <a:ext cx="79704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3185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96400" cy="483876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3186"/>
          <p:cNvSpPr/>
          <p:nvPr/>
        </p:nvSpPr>
        <p:spPr>
          <a:xfrm>
            <a:off x="1095480" y="3494160"/>
            <a:ext cx="22352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图片 93187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4057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420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4210"/>
          <p:cNvSpPr/>
          <p:nvPr/>
        </p:nvSpPr>
        <p:spPr>
          <a:xfrm>
            <a:off x="1116000" y="2852640"/>
            <a:ext cx="22352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图片 94211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348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32004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763040" y="2389320"/>
            <a:ext cx="4921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5233" descr=""/>
          <p:cNvPicPr/>
          <p:nvPr/>
        </p:nvPicPr>
        <p:blipFill>
          <a:blip r:embed="rId1"/>
          <a:stretch/>
        </p:blipFill>
        <p:spPr>
          <a:xfrm>
            <a:off x="428760" y="1343160"/>
            <a:ext cx="82864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6257" descr=""/>
          <p:cNvPicPr/>
          <p:nvPr/>
        </p:nvPicPr>
        <p:blipFill>
          <a:blip r:embed="rId1"/>
          <a:stretch/>
        </p:blipFill>
        <p:spPr>
          <a:xfrm>
            <a:off x="752400" y="1747800"/>
            <a:ext cx="7639200" cy="336240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6258"/>
          <p:cNvSpPr/>
          <p:nvPr/>
        </p:nvSpPr>
        <p:spPr>
          <a:xfrm>
            <a:off x="3300480" y="1743120"/>
            <a:ext cx="10065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6259"/>
          <p:cNvSpPr/>
          <p:nvPr/>
        </p:nvSpPr>
        <p:spPr>
          <a:xfrm>
            <a:off x="7299360" y="4033800"/>
            <a:ext cx="10065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6260"/>
          <p:cNvSpPr/>
          <p:nvPr/>
        </p:nvSpPr>
        <p:spPr>
          <a:xfrm>
            <a:off x="1403280" y="4581360"/>
            <a:ext cx="379728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728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58180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7282"/>
          <p:cNvSpPr/>
          <p:nvPr/>
        </p:nvSpPr>
        <p:spPr>
          <a:xfrm>
            <a:off x="5992920" y="1262160"/>
            <a:ext cx="22352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7283"/>
          <p:cNvSpPr/>
          <p:nvPr/>
        </p:nvSpPr>
        <p:spPr>
          <a:xfrm>
            <a:off x="1332000" y="1844640"/>
            <a:ext cx="93024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7284"/>
          <p:cNvSpPr/>
          <p:nvPr/>
        </p:nvSpPr>
        <p:spPr>
          <a:xfrm>
            <a:off x="1692360" y="5157720"/>
            <a:ext cx="6568920" cy="4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97285"/>
          <p:cNvSpPr/>
          <p:nvPr/>
        </p:nvSpPr>
        <p:spPr>
          <a:xfrm>
            <a:off x="1332000" y="5734080"/>
            <a:ext cx="656892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98305" descr=""/>
          <p:cNvPicPr/>
          <p:nvPr/>
        </p:nvPicPr>
        <p:blipFill>
          <a:blip r:embed="rId1"/>
          <a:stretch/>
        </p:blipFill>
        <p:spPr>
          <a:xfrm>
            <a:off x="495360" y="1467000"/>
            <a:ext cx="815328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99329" descr=""/>
          <p:cNvPicPr/>
          <p:nvPr/>
        </p:nvPicPr>
        <p:blipFill>
          <a:blip r:embed="rId1"/>
          <a:stretch/>
        </p:blipFill>
        <p:spPr>
          <a:xfrm>
            <a:off x="752400" y="1176480"/>
            <a:ext cx="7639200" cy="45050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99330"/>
          <p:cNvSpPr/>
          <p:nvPr/>
        </p:nvSpPr>
        <p:spPr>
          <a:xfrm>
            <a:off x="4013280" y="2290680"/>
            <a:ext cx="9684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9331"/>
          <p:cNvSpPr/>
          <p:nvPr/>
        </p:nvSpPr>
        <p:spPr>
          <a:xfrm>
            <a:off x="5508720" y="2852640"/>
            <a:ext cx="9684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9332"/>
          <p:cNvSpPr/>
          <p:nvPr/>
        </p:nvSpPr>
        <p:spPr>
          <a:xfrm>
            <a:off x="4788000" y="4005360"/>
            <a:ext cx="1311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99333"/>
          <p:cNvSpPr/>
          <p:nvPr/>
        </p:nvSpPr>
        <p:spPr>
          <a:xfrm>
            <a:off x="1979640" y="5157720"/>
            <a:ext cx="1625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00353" descr=""/>
          <p:cNvPicPr/>
          <p:nvPr/>
        </p:nvPicPr>
        <p:blipFill>
          <a:blip r:embed="rId1"/>
          <a:stretch/>
        </p:blipFill>
        <p:spPr>
          <a:xfrm>
            <a:off x="771480" y="2509920"/>
            <a:ext cx="7601040" cy="18381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00354"/>
          <p:cNvSpPr/>
          <p:nvPr/>
        </p:nvSpPr>
        <p:spPr>
          <a:xfrm>
            <a:off x="6477120" y="3092400"/>
            <a:ext cx="57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2" descr=""/>
          <p:cNvPicPr/>
          <p:nvPr/>
        </p:nvPicPr>
        <p:blipFill>
          <a:blip r:embed="rId1"/>
          <a:stretch/>
        </p:blipFill>
        <p:spPr>
          <a:xfrm>
            <a:off x="514440" y="1409760"/>
            <a:ext cx="8115120" cy="40384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3"/>
          <p:cNvSpPr/>
          <p:nvPr/>
        </p:nvSpPr>
        <p:spPr>
          <a:xfrm>
            <a:off x="7724880" y="248436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1147680" y="2219400"/>
            <a:ext cx="684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4993" descr=""/>
          <p:cNvPicPr/>
          <p:nvPr/>
        </p:nvPicPr>
        <p:blipFill>
          <a:blip r:embed="rId1"/>
          <a:stretch/>
        </p:blipFill>
        <p:spPr>
          <a:xfrm>
            <a:off x="542880" y="824040"/>
            <a:ext cx="8058240" cy="520992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4994"/>
          <p:cNvSpPr/>
          <p:nvPr/>
        </p:nvSpPr>
        <p:spPr>
          <a:xfrm>
            <a:off x="7781760" y="346536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3969" descr=""/>
          <p:cNvPicPr/>
          <p:nvPr/>
        </p:nvPicPr>
        <p:blipFill>
          <a:blip r:embed="rId1"/>
          <a:stretch/>
        </p:blipFill>
        <p:spPr>
          <a:xfrm>
            <a:off x="509760" y="1628640"/>
            <a:ext cx="8124480" cy="360072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3970"/>
          <p:cNvSpPr/>
          <p:nvPr/>
        </p:nvSpPr>
        <p:spPr>
          <a:xfrm>
            <a:off x="7781760" y="262728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2945" descr=""/>
          <p:cNvPicPr/>
          <p:nvPr/>
        </p:nvPicPr>
        <p:blipFill>
          <a:blip r:embed="rId1"/>
          <a:stretch/>
        </p:blipFill>
        <p:spPr>
          <a:xfrm>
            <a:off x="509760" y="1581120"/>
            <a:ext cx="8124480" cy="3695760"/>
          </a:xfrm>
          <a:prstGeom prst="rect">
            <a:avLst/>
          </a:prstGeom>
          <a:ln w="0">
            <a:noFill/>
          </a:ln>
        </p:spPr>
      </p:pic>
      <p:sp>
        <p:nvSpPr>
          <p:cNvPr id="1443" name="矩形 82946"/>
          <p:cNvSpPr/>
          <p:nvPr/>
        </p:nvSpPr>
        <p:spPr>
          <a:xfrm>
            <a:off x="7724880" y="2617920"/>
            <a:ext cx="4921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1922" descr=""/>
          <p:cNvPicPr/>
          <p:nvPr/>
        </p:nvPicPr>
        <p:blipFill>
          <a:blip r:embed="rId1"/>
          <a:stretch/>
        </p:blipFill>
        <p:spPr>
          <a:xfrm>
            <a:off x="480960" y="1300320"/>
            <a:ext cx="8182080" cy="42573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1923"/>
          <p:cNvSpPr/>
          <p:nvPr/>
        </p:nvSpPr>
        <p:spPr>
          <a:xfrm>
            <a:off x="7715160" y="2398680"/>
            <a:ext cx="492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0897" descr=""/>
          <p:cNvPicPr/>
          <p:nvPr/>
        </p:nvPicPr>
        <p:blipFill>
          <a:blip r:embed="rId1"/>
          <a:stretch/>
        </p:blipFill>
        <p:spPr>
          <a:xfrm>
            <a:off x="2076480" y="2405160"/>
            <a:ext cx="4991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7:58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